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modem.wav" ContentType="audio/x-wav"/>
  <Override PartName="/ppt/media/image19.png" ContentType="image/png"/>
  <Override PartName="/ppt/media/image18.wmf" ContentType="image/x-wmf"/>
  <Override PartName="/ppt/media/image1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78C-1742-488D-91E0-CAAA400E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E29-9E39-465E-B717-B332ABDF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C0A-D480-4DC9-8DCE-F5AF3E56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912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1264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8560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74912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1264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8F9-9540-44AA-BE4E-D91DF644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CD21-F63C-4753-ADD5-165CF085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DD3A-8B94-404A-80CF-256A049A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70FF-DF82-470E-89EA-45D8776A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09FF-7440-43E4-80C8-34210E1F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BC83-5EAE-4D00-9812-7221C8F2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13D0-89BA-45D7-A85E-D5C4E877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4A85-3518-4F18-9872-28F51FB2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A10-9BD0-4D5C-9B96-A978F86E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9F48-21EF-49C1-B111-D92F1617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9093-EC1F-444E-A822-DB3C5EAA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109C-6D67-4E31-B7E0-6192061A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5356-08E5-4F4F-920E-54960D50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912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1264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68560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74912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1264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0121-6707-4E2F-B45B-84EB94D6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44B-64A1-4D54-8B8E-69AEA045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C64-8B2C-433C-9DF4-D073DFDC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A06-E381-4176-BB72-E238AA58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A88-9324-48F4-AB82-254230B3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62E-E7E9-4A11-A6D7-E641BEE1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F30-B852-4AA1-B312-53502D9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160-E653-4D89-8DBA-93AE73BD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944-CCC6-4254-9E0E-A6FAC640DA2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B07E-6789-405B-8921-153A5BD0330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12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15.xml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18.xml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21.xml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27.xml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27.xml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30.xml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audio" Target="../media/modem.wav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6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3200" y="1447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cript MT Bold"/>
              </a:rPr>
              <a:t>Grammar Goofs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8120" y="35809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Created by Connie Campbell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" name="3kids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1932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rry, that is in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26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orrect answer i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pitcher threw a curve bal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encil5" descr=""/>
          <p:cNvPicPr/>
          <p:nvPr/>
        </p:nvPicPr>
        <p:blipFill>
          <a:blip r:embed="rId2"/>
          <a:stretch/>
        </p:blipFill>
        <p:spPr>
          <a:xfrm>
            <a:off x="685800" y="4194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7467480" y="5105520"/>
            <a:ext cx="1524240" cy="1600200"/>
          </a:xfrm>
          <a:custGeom>
            <a:avLst/>
            <a:gdLst>
              <a:gd name="textAreaLeft" fmla="*/ 98640 w 1524240"/>
              <a:gd name="textAreaRight" fmla="*/ 1425600 w 152424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76">
                <a:moveTo>
                  <a:pt x="0" y="0"/>
                </a:moveTo>
                <a:lnTo>
                  <a:pt x="21600" y="0"/>
                </a:lnTo>
                <a:lnTo>
                  <a:pt x="21600" y="22676"/>
                </a:lnTo>
                <a:lnTo>
                  <a:pt x="0" y="22676"/>
                </a:lnTo>
                <a:close/>
              </a:path>
              <a:path fill="lightenLess" w="21600" h="226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76">
                <a:moveTo>
                  <a:pt x="21600" y="0"/>
                </a:moveTo>
                <a:lnTo>
                  <a:pt x="21600" y="22676"/>
                </a:lnTo>
                <a:lnTo>
                  <a:pt x="20200" y="21276"/>
                </a:lnTo>
                <a:lnTo>
                  <a:pt x="20200" y="1400"/>
                </a:lnTo>
                <a:close/>
              </a:path>
              <a:path fill="darkenLess" w="21600" h="22676">
                <a:moveTo>
                  <a:pt x="21600" y="22676"/>
                </a:moveTo>
                <a:lnTo>
                  <a:pt x="0" y="22676"/>
                </a:lnTo>
                <a:lnTo>
                  <a:pt x="1400" y="21276"/>
                </a:lnTo>
                <a:lnTo>
                  <a:pt x="20200" y="21276"/>
                </a:lnTo>
                <a:close/>
              </a:path>
              <a:path fill="lighten" w="21600" h="22676">
                <a:moveTo>
                  <a:pt x="0" y="226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76"/>
                </a:lnTo>
                <a:close/>
              </a:path>
              <a:path fill="darken" w="21600" h="22676">
                <a:moveTo>
                  <a:pt x="3794" y="4332"/>
                </a:moveTo>
                <a:lnTo>
                  <a:pt x="17806" y="11338"/>
                </a:lnTo>
                <a:lnTo>
                  <a:pt x="3794" y="18345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pe01786_" descr=""/>
          <p:cNvPicPr/>
          <p:nvPr/>
        </p:nvPicPr>
        <p:blipFill>
          <a:blip r:embed="rId4"/>
          <a:stretch/>
        </p:blipFill>
        <p:spPr>
          <a:xfrm>
            <a:off x="7446960" y="380880"/>
            <a:ext cx="16970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es, that is 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7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pitcher threw a curve bal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37" name="pe01786_" descr=""/>
          <p:cNvPicPr/>
          <p:nvPr/>
        </p:nvPicPr>
        <p:blipFill>
          <a:blip r:embed="rId3"/>
          <a:stretch/>
        </p:blipFill>
        <p:spPr>
          <a:xfrm>
            <a:off x="7446960" y="380880"/>
            <a:ext cx="1697040" cy="34354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7543800" y="518148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ich sentence is correc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4876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We have already chosen a gift for Da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We already 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4" action="ppaction://hlinksldjump"/>
              </a:rPr>
              <a:t>choosed 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5" action="ppaction://hlinksldjump"/>
              </a:rPr>
              <a:t>a gift for Da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encil5" descr=""/>
          <p:cNvPicPr/>
          <p:nvPr/>
        </p:nvPicPr>
        <p:blipFill>
          <a:blip r:embed="rId6"/>
          <a:stretch/>
        </p:blipFill>
        <p:spPr>
          <a:xfrm>
            <a:off x="685800" y="3429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42" name="pencil5" descr=""/>
          <p:cNvPicPr/>
          <p:nvPr/>
        </p:nvPicPr>
        <p:blipFill>
          <a:blip r:embed="rId7"/>
          <a:stretch/>
        </p:blipFill>
        <p:spPr>
          <a:xfrm>
            <a:off x="685800" y="472752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43" name="pe02619_" descr=""/>
          <p:cNvPicPr/>
          <p:nvPr/>
        </p:nvPicPr>
        <p:blipFill>
          <a:blip r:embed="rId8"/>
          <a:stretch/>
        </p:blipFill>
        <p:spPr>
          <a:xfrm>
            <a:off x="7086600" y="685800"/>
            <a:ext cx="185436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rry, that is in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orrect answer i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e have already chosen a gift for Da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7620120" y="525780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pe02619_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85436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es, that is 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57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e have already chosen a gift for Da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52" name="pe02619_" descr=""/>
          <p:cNvPicPr/>
          <p:nvPr/>
        </p:nvPicPr>
        <p:blipFill>
          <a:blip r:embed="rId3"/>
          <a:stretch/>
        </p:blipFill>
        <p:spPr>
          <a:xfrm>
            <a:off x="7086600" y="685800"/>
            <a:ext cx="1854360" cy="166212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543800" y="518148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ich sentence is correc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They rung the bel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They rang the bel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encil5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57" name="pencil5" descr=""/>
          <p:cNvPicPr/>
          <p:nvPr/>
        </p:nvPicPr>
        <p:blipFill>
          <a:blip r:embed="rId5"/>
          <a:stretch/>
        </p:blipFill>
        <p:spPr>
          <a:xfrm>
            <a:off x="685800" y="4191120"/>
            <a:ext cx="388800" cy="377640"/>
          </a:xfrm>
          <a:prstGeom prst="rect">
            <a:avLst/>
          </a:prstGeom>
          <a:ln w="0">
            <a:noFill/>
          </a:ln>
        </p:spPr>
      </p:pic>
      <p:pic>
        <p:nvPicPr>
          <p:cNvPr id="158" name="bd05088_" descr=""/>
          <p:cNvPicPr/>
          <p:nvPr/>
        </p:nvPicPr>
        <p:blipFill>
          <a:blip r:embed="rId6"/>
          <a:stretch/>
        </p:blipFill>
        <p:spPr>
          <a:xfrm>
            <a:off x="7162920" y="1676520"/>
            <a:ext cx="1827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rry, that is in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orrect answer i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y rang the bel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7620120" y="525780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bd05088_" descr=""/>
          <p:cNvPicPr/>
          <p:nvPr/>
        </p:nvPicPr>
        <p:blipFill>
          <a:blip r:embed="rId4"/>
          <a:stretch/>
        </p:blipFill>
        <p:spPr>
          <a:xfrm>
            <a:off x="7162920" y="1676520"/>
            <a:ext cx="1827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es, that is 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y rang the bel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67" name="bd05088_" descr=""/>
          <p:cNvPicPr/>
          <p:nvPr/>
        </p:nvPicPr>
        <p:blipFill>
          <a:blip r:embed="rId3"/>
          <a:stretch/>
        </p:blipFill>
        <p:spPr>
          <a:xfrm>
            <a:off x="7162920" y="1676520"/>
            <a:ext cx="1827000" cy="326700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7543800" y="518148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ich sentence is correc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I cannot tell a li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I can not tell a li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encil5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72" name="pencil5" descr=""/>
          <p:cNvPicPr/>
          <p:nvPr/>
        </p:nvPicPr>
        <p:blipFill>
          <a:blip r:embed="rId5"/>
          <a:stretch/>
        </p:blipFill>
        <p:spPr>
          <a:xfrm>
            <a:off x="685800" y="4191120"/>
            <a:ext cx="388800" cy="377640"/>
          </a:xfrm>
          <a:prstGeom prst="rect">
            <a:avLst/>
          </a:prstGeom>
          <a:ln w="0">
            <a:noFill/>
          </a:ln>
        </p:spPr>
      </p:pic>
      <p:pic>
        <p:nvPicPr>
          <p:cNvPr id="173" name="pe01753_" descr=""/>
          <p:cNvPicPr/>
          <p:nvPr/>
        </p:nvPicPr>
        <p:blipFill>
          <a:blip r:embed="rId6"/>
          <a:stretch/>
        </p:blipFill>
        <p:spPr>
          <a:xfrm>
            <a:off x="7010280" y="152280"/>
            <a:ext cx="1700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rry, that is in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orrect answer i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 cannot tell a li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7467480" y="5105520"/>
            <a:ext cx="1524240" cy="1600200"/>
          </a:xfrm>
          <a:custGeom>
            <a:avLst/>
            <a:gdLst>
              <a:gd name="textAreaLeft" fmla="*/ 98640 w 1524240"/>
              <a:gd name="textAreaRight" fmla="*/ 1425600 w 152424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76">
                <a:moveTo>
                  <a:pt x="0" y="0"/>
                </a:moveTo>
                <a:lnTo>
                  <a:pt x="21600" y="0"/>
                </a:lnTo>
                <a:lnTo>
                  <a:pt x="21600" y="22676"/>
                </a:lnTo>
                <a:lnTo>
                  <a:pt x="0" y="22676"/>
                </a:lnTo>
                <a:close/>
              </a:path>
              <a:path fill="lightenLess" w="21600" h="226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76">
                <a:moveTo>
                  <a:pt x="21600" y="0"/>
                </a:moveTo>
                <a:lnTo>
                  <a:pt x="21600" y="22676"/>
                </a:lnTo>
                <a:lnTo>
                  <a:pt x="20200" y="21276"/>
                </a:lnTo>
                <a:lnTo>
                  <a:pt x="20200" y="1400"/>
                </a:lnTo>
                <a:close/>
              </a:path>
              <a:path fill="darkenLess" w="21600" h="22676">
                <a:moveTo>
                  <a:pt x="21600" y="22676"/>
                </a:moveTo>
                <a:lnTo>
                  <a:pt x="0" y="22676"/>
                </a:lnTo>
                <a:lnTo>
                  <a:pt x="1400" y="21276"/>
                </a:lnTo>
                <a:lnTo>
                  <a:pt x="20200" y="21276"/>
                </a:lnTo>
                <a:close/>
              </a:path>
              <a:path fill="lighten" w="21600" h="22676">
                <a:moveTo>
                  <a:pt x="0" y="226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76"/>
                </a:lnTo>
                <a:close/>
              </a:path>
              <a:path fill="darken" w="21600" h="22676">
                <a:moveTo>
                  <a:pt x="3794" y="4332"/>
                </a:moveTo>
                <a:lnTo>
                  <a:pt x="17806" y="11338"/>
                </a:lnTo>
                <a:lnTo>
                  <a:pt x="3794" y="18345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e01753_" descr=""/>
          <p:cNvPicPr/>
          <p:nvPr/>
        </p:nvPicPr>
        <p:blipFill>
          <a:blip r:embed="rId4"/>
          <a:stretch/>
        </p:blipFill>
        <p:spPr>
          <a:xfrm>
            <a:off x="7010280" y="152280"/>
            <a:ext cx="1700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ad each sentence and click the one that is written correctly.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2" name="boy-hunt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2560680" cy="2009880"/>
          </a:xfrm>
          <a:prstGeom prst="rect">
            <a:avLst/>
          </a:prstGeom>
          <a:ln w="0">
            <a:noFill/>
          </a:ln>
        </p:spPr>
      </p:pic>
      <p:pic>
        <p:nvPicPr>
          <p:cNvPr id="93" name="Mouse2" descr=""/>
          <p:cNvPicPr/>
          <p:nvPr/>
        </p:nvPicPr>
        <p:blipFill>
          <a:blip r:embed="rId3"/>
          <a:stretch/>
        </p:blipFill>
        <p:spPr>
          <a:xfrm>
            <a:off x="3581280" y="5638680"/>
            <a:ext cx="1749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es, that is 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 cannot tell a li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82" name="pe01753_" descr=""/>
          <p:cNvPicPr/>
          <p:nvPr/>
        </p:nvPicPr>
        <p:blipFill>
          <a:blip r:embed="rId3"/>
          <a:stretch/>
        </p:blipFill>
        <p:spPr>
          <a:xfrm>
            <a:off x="7010280" y="152280"/>
            <a:ext cx="1700280" cy="221004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7543800" y="518148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ich sentence is correc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952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 has done the math problem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 has did the math problem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encil5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87" name="pencil5" descr=""/>
          <p:cNvPicPr/>
          <p:nvPr/>
        </p:nvPicPr>
        <p:blipFill>
          <a:blip r:embed="rId3"/>
          <a:stretch/>
        </p:blipFill>
        <p:spPr>
          <a:xfrm>
            <a:off x="609480" y="4876920"/>
            <a:ext cx="389160" cy="377640"/>
          </a:xfrm>
          <a:prstGeom prst="rect">
            <a:avLst/>
          </a:prstGeom>
          <a:ln w="0">
            <a:noFill/>
          </a:ln>
        </p:spPr>
      </p:pic>
      <p:pic>
        <p:nvPicPr>
          <p:cNvPr id="188" name="bd05097_" descr=""/>
          <p:cNvPicPr/>
          <p:nvPr/>
        </p:nvPicPr>
        <p:blipFill>
          <a:blip r:embed="rId4"/>
          <a:stretch/>
        </p:blipFill>
        <p:spPr>
          <a:xfrm>
            <a:off x="7010280" y="380880"/>
            <a:ext cx="189864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rry, that is in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orrect answer i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 has done the math problem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encil5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388800" cy="3776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7620120" y="525780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bd05097_" descr=""/>
          <p:cNvPicPr/>
          <p:nvPr/>
        </p:nvPicPr>
        <p:blipFill>
          <a:blip r:embed="rId4"/>
          <a:stretch/>
        </p:blipFill>
        <p:spPr>
          <a:xfrm>
            <a:off x="7010280" y="380880"/>
            <a:ext cx="189864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es, that is 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 has done the math problem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6" name="pencil5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97" name="bd05097_" descr=""/>
          <p:cNvPicPr/>
          <p:nvPr/>
        </p:nvPicPr>
        <p:blipFill>
          <a:blip r:embed="rId3"/>
          <a:stretch/>
        </p:blipFill>
        <p:spPr>
          <a:xfrm>
            <a:off x="7010280" y="380880"/>
            <a:ext cx="1898640" cy="195444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543800" y="518148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ich sentence is correc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 seen her mom at the hospital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 saw her mom at the hospita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1" name="pencil5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389160" cy="377640"/>
          </a:xfrm>
          <a:prstGeom prst="rect">
            <a:avLst/>
          </a:prstGeom>
          <a:ln w="0">
            <a:noFill/>
          </a:ln>
        </p:spPr>
      </p:pic>
      <p:pic>
        <p:nvPicPr>
          <p:cNvPr id="202" name="pencil5" descr=""/>
          <p:cNvPicPr/>
          <p:nvPr/>
        </p:nvPicPr>
        <p:blipFill>
          <a:blip r:embed="rId3"/>
          <a:stretch/>
        </p:blipFill>
        <p:spPr>
          <a:xfrm>
            <a:off x="609480" y="495288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j0079068" descr=""/>
          <p:cNvPicPr/>
          <p:nvPr/>
        </p:nvPicPr>
        <p:blipFill>
          <a:blip r:embed="rId4"/>
          <a:stretch/>
        </p:blipFill>
        <p:spPr>
          <a:xfrm>
            <a:off x="6553080" y="0"/>
            <a:ext cx="24163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rry, that is in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orrect answer i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 saw her mom at the hospita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6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7620120" y="525780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j0079068" descr=""/>
          <p:cNvPicPr/>
          <p:nvPr/>
        </p:nvPicPr>
        <p:blipFill>
          <a:blip r:embed="rId4"/>
          <a:stretch/>
        </p:blipFill>
        <p:spPr>
          <a:xfrm>
            <a:off x="6553080" y="0"/>
            <a:ext cx="24163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es, that is 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 saw her mom at the hospita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1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12" name="j0079068" descr=""/>
          <p:cNvPicPr/>
          <p:nvPr/>
        </p:nvPicPr>
        <p:blipFill>
          <a:blip r:embed="rId3"/>
          <a:stretch/>
        </p:blipFill>
        <p:spPr>
          <a:xfrm>
            <a:off x="6553080" y="0"/>
            <a:ext cx="2416320" cy="234144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543800" y="518148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ich sentence is correc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lock struck twelv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lock striked twelv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encil5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17" name="pencil5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388800" cy="37764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6781680" y="380880"/>
            <a:ext cx="2265480" cy="2001960"/>
            <a:chOff x="6781680" y="380880"/>
            <a:chExt cx="2265480" cy="2001960"/>
          </a:xfrm>
        </p:grpSpPr>
        <p:pic>
          <p:nvPicPr>
            <p:cNvPr id="219" name="bd19726_" descr=""/>
            <p:cNvPicPr/>
            <p:nvPr/>
          </p:nvPicPr>
          <p:blipFill>
            <a:blip r:embed="rId4"/>
            <a:stretch/>
          </p:blipFill>
          <p:spPr>
            <a:xfrm>
              <a:off x="6781680" y="380880"/>
              <a:ext cx="2265480" cy="20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543800" y="1163520"/>
              <a:ext cx="609480" cy="60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7848360" y="1011240"/>
              <a:ext cx="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848360" y="1163520"/>
              <a:ext cx="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rry, that is in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orrect answer i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lock struck twelv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5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rId3" action="ppaction://hlinksldjump"/>
          </p:cNvPr>
          <p:cNvSpPr/>
          <p:nvPr/>
        </p:nvSpPr>
        <p:spPr>
          <a:xfrm>
            <a:off x="7620120" y="525780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77120" y="762120"/>
            <a:ext cx="2265120" cy="2001600"/>
            <a:chOff x="6477120" y="762120"/>
            <a:chExt cx="2265120" cy="2001600"/>
          </a:xfrm>
        </p:grpSpPr>
        <p:pic>
          <p:nvPicPr>
            <p:cNvPr id="228" name="bd19726_" descr=""/>
            <p:cNvPicPr/>
            <p:nvPr/>
          </p:nvPicPr>
          <p:blipFill>
            <a:blip r:embed="rId4"/>
            <a:stretch/>
          </p:blipFill>
          <p:spPr>
            <a:xfrm>
              <a:off x="6477120" y="762120"/>
              <a:ext cx="2265120" cy="20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7238880" y="1544400"/>
              <a:ext cx="60912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543440" y="1391760"/>
              <a:ext cx="0" cy="456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7543440" y="1544040"/>
              <a:ext cx="0" cy="456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es, that is 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lock struck twelv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4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00800" y="914400"/>
            <a:ext cx="2265480" cy="2001960"/>
            <a:chOff x="6400800" y="914400"/>
            <a:chExt cx="2265480" cy="2001960"/>
          </a:xfrm>
        </p:grpSpPr>
        <p:pic>
          <p:nvPicPr>
            <p:cNvPr id="236" name="bd19726_" descr=""/>
            <p:cNvPicPr/>
            <p:nvPr/>
          </p:nvPicPr>
          <p:blipFill>
            <a:blip r:embed="rId3"/>
            <a:stretch/>
          </p:blipFill>
          <p:spPr>
            <a:xfrm>
              <a:off x="6400800" y="914400"/>
              <a:ext cx="2265480" cy="20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162920" y="16970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467480" y="1544760"/>
              <a:ext cx="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7467480" y="1697040"/>
              <a:ext cx="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7543800" y="518148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ich sentence is correc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I washed the car g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I washed the car wel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pencil5" descr=""/>
          <p:cNvPicPr/>
          <p:nvPr/>
        </p:nvPicPr>
        <p:blipFill>
          <a:blip r:embed="rId4"/>
          <a:stretch/>
        </p:blipFill>
        <p:spPr>
          <a:xfrm>
            <a:off x="685800" y="3962520"/>
            <a:ext cx="388800" cy="377640"/>
          </a:xfrm>
          <a:prstGeom prst="rect">
            <a:avLst/>
          </a:prstGeom>
          <a:ln w="0">
            <a:noFill/>
          </a:ln>
        </p:spPr>
      </p:pic>
      <p:pic>
        <p:nvPicPr>
          <p:cNvPr id="97" name="pencil5" descr=""/>
          <p:cNvPicPr/>
          <p:nvPr/>
        </p:nvPicPr>
        <p:blipFill>
          <a:blip r:embed="rId5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98" name="bd06912_" descr=""/>
          <p:cNvPicPr/>
          <p:nvPr/>
        </p:nvPicPr>
        <p:blipFill>
          <a:blip r:embed="rId6"/>
          <a:stretch/>
        </p:blipFill>
        <p:spPr>
          <a:xfrm>
            <a:off x="7162920" y="3886200"/>
            <a:ext cx="177480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eed more help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3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44" name="internet4" descr=""/>
          <p:cNvPicPr/>
          <p:nvPr/>
        </p:nvPicPr>
        <p:blipFill>
          <a:blip r:embed="rId3"/>
          <a:stretch/>
        </p:blipFill>
        <p:spPr>
          <a:xfrm>
            <a:off x="5867280" y="1905120"/>
            <a:ext cx="18068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rry, that is in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orrect answer i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 washed the car wel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7543800" y="518148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bd06912_" descr=""/>
          <p:cNvPicPr/>
          <p:nvPr/>
        </p:nvPicPr>
        <p:blipFill>
          <a:blip r:embed="rId4"/>
          <a:stretch/>
        </p:blipFill>
        <p:spPr>
          <a:xfrm>
            <a:off x="6858000" y="3581280"/>
            <a:ext cx="177480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es, that is 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 washed the car wel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pencil5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07" name="bd06912_" descr=""/>
          <p:cNvPicPr/>
          <p:nvPr/>
        </p:nvPicPr>
        <p:blipFill>
          <a:blip r:embed="rId3"/>
          <a:stretch/>
        </p:blipFill>
        <p:spPr>
          <a:xfrm>
            <a:off x="6781680" y="3429000"/>
            <a:ext cx="1774800" cy="133020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7543800" y="518148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ich sentence is correc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Fred and me worked on the projec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Fred and I worked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4" action="ppaction://hlinksldjump"/>
              </a:rPr>
              <a:t>on the projec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encil5" descr=""/>
          <p:cNvPicPr/>
          <p:nvPr/>
        </p:nvPicPr>
        <p:blipFill>
          <a:blip r:embed="rId5"/>
          <a:stretch/>
        </p:blipFill>
        <p:spPr>
          <a:xfrm>
            <a:off x="685800" y="335592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12" name="pencil5" descr=""/>
          <p:cNvPicPr/>
          <p:nvPr/>
        </p:nvPicPr>
        <p:blipFill>
          <a:blip r:embed="rId6"/>
          <a:stretch/>
        </p:blipFill>
        <p:spPr>
          <a:xfrm>
            <a:off x="685800" y="472752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13" name="bd05063_" descr=""/>
          <p:cNvPicPr/>
          <p:nvPr/>
        </p:nvPicPr>
        <p:blipFill>
          <a:blip r:embed="rId7"/>
          <a:stretch/>
        </p:blipFill>
        <p:spPr>
          <a:xfrm>
            <a:off x="6248520" y="0"/>
            <a:ext cx="27748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rry, that is in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orrect answer i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red and I worked on the projec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encil5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7391520" y="495288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bd05063_" descr=""/>
          <p:cNvPicPr/>
          <p:nvPr/>
        </p:nvPicPr>
        <p:blipFill>
          <a:blip r:embed="rId4"/>
          <a:stretch/>
        </p:blipFill>
        <p:spPr>
          <a:xfrm>
            <a:off x="6369120" y="838080"/>
            <a:ext cx="27748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es, that is correct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876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red and I worked on the projec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encil5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22" name="bd05063_" descr=""/>
          <p:cNvPicPr/>
          <p:nvPr/>
        </p:nvPicPr>
        <p:blipFill>
          <a:blip r:embed="rId3"/>
          <a:stretch/>
        </p:blipFill>
        <p:spPr>
          <a:xfrm>
            <a:off x="6172200" y="838080"/>
            <a:ext cx="2774880" cy="24019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543800" y="5181480"/>
            <a:ext cx="1523880" cy="16002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600200"/>
              <a:gd name="textAreaBottom" fmla="*/ 1501560 h 16002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4334"/>
                </a:moveTo>
                <a:lnTo>
                  <a:pt x="17806" y="11341"/>
                </a:lnTo>
                <a:lnTo>
                  <a:pt x="3794" y="18347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ich sentence is correc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The pitcher threw a curve bal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The pitcher 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4" action="ppaction://hlinksldjump"/>
              </a:rPr>
              <a:t>throwed 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  <a:hlinkClick r:id="rId5" action="ppaction://hlinksldjump"/>
              </a:rPr>
              <a:t>a curve bal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encil5" descr=""/>
          <p:cNvPicPr/>
          <p:nvPr/>
        </p:nvPicPr>
        <p:blipFill>
          <a:blip r:embed="rId6"/>
          <a:stretch/>
        </p:blipFill>
        <p:spPr>
          <a:xfrm>
            <a:off x="685800" y="403848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27" name="pencil5" descr=""/>
          <p:cNvPicPr/>
          <p:nvPr/>
        </p:nvPicPr>
        <p:blipFill>
          <a:blip r:embed="rId7"/>
          <a:stretch/>
        </p:blipFill>
        <p:spPr>
          <a:xfrm>
            <a:off x="685800" y="472752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28" name="pe01786_" descr=""/>
          <p:cNvPicPr/>
          <p:nvPr/>
        </p:nvPicPr>
        <p:blipFill>
          <a:blip r:embed="rId8"/>
          <a:stretch/>
        </p:blipFill>
        <p:spPr>
          <a:xfrm>
            <a:off x="7446960" y="380880"/>
            <a:ext cx="16970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3T22:30:11Z</dcterms:created>
  <dc:creator>Daryl Campbell</dc:creator>
  <dc:description/>
  <dc:language>en-US</dc:language>
  <cp:lastModifiedBy>Daryl Campbell</cp:lastModifiedBy>
  <dcterms:modified xsi:type="dcterms:W3CDTF">1999-12-14T00:49:58Z</dcterms:modified>
  <cp:revision>5</cp:revision>
  <dc:subject/>
  <dc:title>Grammar Goofs</dc:title>
</cp:coreProperties>
</file>